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7C22-5C0A-47A3-81B1-D5F56022B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B7B8-FC0A-4213-948A-1A3984AC4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A71C-C6BE-4A95-9B51-ED4CAE435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3720-1FFF-40A1-8307-C62D7466C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D297-9BCF-4F29-8852-B3710FE2E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00BC-A4E6-47B1-9F0E-4E0494748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C398-E995-479D-B0A0-91DBF2F38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A1B4-0B7A-43D6-B98C-51FD954AA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170F-F96B-4D74-B421-4AE36BB3D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25CA-2004-4820-8D24-8DF5CB45B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2B94-52EC-4636-AFD8-84E279478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FDF4-6DE1-4AE6-AB99-AE97A1CBE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E21E-333D-4C57-B90D-E5D77F1F21C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30320" y="63705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1880" y="2152800"/>
            <a:ext cx="8301240" cy="25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c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visualranking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/thinking/resource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41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 Teach Program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559908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Version 2 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Planning Your Project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Planning Your Use of Visual Ranking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6.0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the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Unit Plan Templa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to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se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Tit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Descri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mp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R, use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Idea document available in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Thinking Tools, Visual Ranking Tool Resources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rom the resource file si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Creating a Practice List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09–6.1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rainstorm a list of items to rank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5774-28F1-4BC6-88F9-068C7BAB41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 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tting up a Visual Ranking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reating a Visual Ranking Project from an</a:t>
            </a: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Existing Project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.11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rom your Favorit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visualrank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and copy an appropriate projec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ke any changes you would like to the description, prompt, or li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ve the chang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py the project details into your Unit Plan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9EDF-A8A1-434C-866F-02F6DBC366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tting up a Visual Ranking Project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9280" y="1676160"/>
            <a:ext cx="8237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Creating a New Visual Ranking Project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12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t up a new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roject in the Teacher Worksp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ll in the requested information about your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ubmit the projec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43BB-815F-4BB7-80C9-6F9A121822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Setting up a Visual Ranking Project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7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Creating Team IDs with the Project Wizard 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.1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new teams using the Project Wiz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cord team IDs and passwo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reating Specialized Student Team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Module 6.14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Go to the Manage Project Teams page for your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a new student team with a unique team ID that identifies the team’s perspect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e a unique password for the tea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ubmit the team inform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5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Recording Your Team ID Information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Module 6.14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cord your login inform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60BB-8C88-4DCD-8C4C-C7828E5B5E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y 4 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Trying Out Your Visual Ranking Idea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Creating a Practice Ranking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15 – 6.6.1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ork with another teacher or tea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est your concepts by ranking each other’s li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actice discussions and questions you would ask your stud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witch and rank the other teacher’s or team’s li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your rank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1B03B-61B8-471B-A42D-61DD272FA6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rying Out Your Visual Ranking Idea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Assessing Your Practice Ranking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6.1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ork with the other tea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Visual Ranking Project Reflection Checklist to guide your discuss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Editing Your Project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1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the project name you want to ed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or edit student team inform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2A2A-6210-4CB9-82D7-60014E7014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rying Out Your Visual Ranking Idea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37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 Reviewing Student Work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1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a comment to a student rank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 Repor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o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5: Deleting a Project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1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lete a project in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anage Projects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8FD8-6D44-426A-8C93-0E72A0F827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siting Your Unit Pla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75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Understanding Best Classroom Practices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.20 – 6.2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the following items as you plan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orking in team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tting Up and Implementing a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aring Rank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flecting on Lear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Multiple Methods of Assessment throughout the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6B49-DE87-4822-8092-9043C5AF8A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0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rying Out Your Visual Ranking Idea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6160" y="1638000"/>
            <a:ext cx="825660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Revising Your Unit Plan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2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roject Name, Project Description, Project Prompt, and Sorting List, if need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Standards/Syllabus Outcomes and Curriculum Framing Questions, if necessar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the Assessment Plan section, add your ideas for how you would assess the learning throughout the un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Assessment Timeline, as need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raft the Procedur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raft or outline the Unit Summar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7CF20-BB04-46A9-A697-D2AFB8B167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Your Result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24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your experience with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d you try out an idea for your main unit or for a different project idea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sidering your test results, do you think you will keep this tool in your unit plan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do you see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itting in with the objectives and standards/syllabus outcomes you are trying to target, and your overall plan for your unit?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will the use of this tool help students meet those need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questions do you still have about this project’s design, implementation, or assessment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09FF-97C1-41C6-84B5-67056C1037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Wer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375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1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rgeting Thinking in the Classr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2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signing Projec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3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ing Curriculum Framing Questions to Suppor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nking Ski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4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lanning Student-Centered Assess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Module 5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onsidering the Visual Ranking Tool for Your Uni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best uses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32B4-B822-4609-9B02-3970516F3A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 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Extension Activity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nalising Your Visual Ranking Project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6.25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If you anticipate that a </a:t>
            </a:r>
            <a:r>
              <a:rPr b="0" i="1" lang="en-AU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 project will be implemented for your unit because it is a good fit for the unit’s objectives, complete any unfinished elements of your </a:t>
            </a:r>
            <a:r>
              <a:rPr b="0" i="1" lang="en-AU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 project. 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Include appropriate references, comments and analysis in your student sample that you would expect your students to include in their </a:t>
            </a:r>
            <a:r>
              <a:rPr b="0" i="1" lang="en-AU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 projects. 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Make any necessary edits to the project itself, and save your chang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EFCD-4CC9-4A61-8441-946348EA8D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4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6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Summary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27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5760" y="1857240"/>
          <a:ext cx="8237520" cy="287460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38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6 Ke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24879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3160" indent="-171720">
                        <a:spcBef>
                          <a:spcPts val="201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Visual Ranking Tool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helps to develop students’ collaboration, cooperation, and persuasion skills, as well as their ability to analyze, evaluate, and prioritize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Visual Ranking Tool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provides opportunities to extend the learning community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901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 team’s verbal and written explanations for a ranking may be useful to determine the depth of their understanding.</a:t>
                      </a: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4F7E-22BC-48DD-B18F-7EB6A3C325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xt Module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7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0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ing the Seeing Reason Tool to Target Thinking Skill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a unit that integrates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resent causal relationships visu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best uses of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and discuss ideas for incorporating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o your un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velop and share a project idea that use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t up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onli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877F-EF1F-4FAF-B4C5-2CE142DBD7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5480" y="2084400"/>
            <a:ext cx="4500360" cy="22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1B4E-1B6F-4AEC-A8CB-2C98831D36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760" y="1057320"/>
            <a:ext cx="823752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dule 6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onsidering the Visual Ranking Tool for Your Uni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y out a project idea using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e, share, and reflect on a practice ran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se your Unit Pla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you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experi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70F8-D769-4BD7-AB97-10C083D499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 Go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1371600"/>
          <a:ext cx="8237520" cy="3235320"/>
        </p:xfrm>
        <a:graphic>
          <a:graphicData uri="http://schemas.openxmlformats.org/drawingml/2006/table">
            <a:tbl>
              <a:tblPr/>
              <a:tblGrid>
                <a:gridCol w="1830600"/>
                <a:gridCol w="6406920"/>
              </a:tblGrid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7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8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9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0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mpleting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5959-7EBA-49BC-B601-D736844AD0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nsidering the Visual Ranking Tool for Your Uni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95680" y="1752120"/>
            <a:ext cx="40197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ry out project ideas that incorporate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o your un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, share, and reflect on a practice rank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your experience with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262400" cy="426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063B-429D-473B-B89F-B991B8AFE2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rifying Project Ideas for Using Visual Rank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375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Reviewing the Needs of Your Uni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Module 6.01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your “Teaching and Learning Taxonomy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the standards/syllabus outcomes you identified as ones that could possibly benefit from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or consider new objectives that could be supported by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437184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Note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f you do not believ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would be a good fit for your unit, you will have the opportunity to try out an idea for a different unit during this modul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F151-7350-4CDF-B974-F106ECC4C2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rifying Project Ideas for Using Visual Rank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523880"/>
            <a:ext cx="830592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Viewing Sample Project Descriptions and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rompts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.02–6.0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spcAft>
                <a:spcPts val="1001"/>
              </a:spcAft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Aft>
                <a:spcPts val="1001"/>
              </a:spcAft>
              <a:buClr>
                <a:srgbClr val="0860a8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project idea descripti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Aft>
                <a:spcPts val="1001"/>
              </a:spcAft>
              <a:buClr>
                <a:srgbClr val="0860a8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sider tips for creating a prompt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399960">
              <a:lnSpc>
                <a:spcPct val="100000"/>
              </a:lnSpc>
              <a:spcAft>
                <a:spcPts val="1001"/>
              </a:spcAft>
              <a:buClr>
                <a:srgbClr val="0860a8"/>
              </a:buClr>
              <a:buFont typeface="Verdana"/>
              <a:buChar char="–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clude the criteria for sorting, unless the criteria is team-specific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399960">
              <a:lnSpc>
                <a:spcPct val="100000"/>
              </a:lnSpc>
              <a:spcAft>
                <a:spcPts val="1001"/>
              </a:spcAft>
              <a:buClr>
                <a:srgbClr val="0860a8"/>
              </a:buClr>
              <a:buFont typeface="Verdana"/>
              <a:buChar char="–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arify that they are sorting the entire list, not just picking the bes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399960">
              <a:lnSpc>
                <a:spcPct val="100000"/>
              </a:lnSpc>
              <a:spcAft>
                <a:spcPts val="1001"/>
              </a:spcAft>
              <a:buClr>
                <a:srgbClr val="0860a8"/>
              </a:buClr>
              <a:buFont typeface="Verdana"/>
              <a:buChar char="–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arify meaning of qualifiers, such a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impac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,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significan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,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bes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8A6C-6E0D-4F3D-853F-77B44DB3EE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rifying Project Ideas for Using Visual Ranking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041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523880"/>
            <a:ext cx="853452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haring Your Ideas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.0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22860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are your ideas for a project incorporating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22860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vide feedback on ways to target higher order thinking skill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22860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20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8399-89FD-4B23-BF44-9CB0560EE0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reating Your Own Project Description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             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and Prompt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07–6.0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Your Curriculum Framing Questions in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Your Project Priorities on pages 2.17-2.2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eview the Project Reflection Checklist on page 6.1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Rubric on page 2.15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raft your project description and prompt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Note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use is not appropriate for your unit, use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Idea document in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Thinking Tools, Visual Ranking Tool Resources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lder available from the resource file site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/education/thinking/resour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D561-75D9-401A-BDBD-BDAD190CAE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stephanie.georges</cp:lastModifiedBy>
  <dcterms:modified xsi:type="dcterms:W3CDTF">2009-01-21T03:16:48Z</dcterms:modified>
  <cp:revision>132</cp:revision>
  <dc:subject/>
  <dc:title>Presentation Title Goes Here</dc:title>
</cp:coreProperties>
</file>